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1C47-E1E3-4AD7-834D-3F009DE5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E244-F478-4CA4-82F7-5EDC02B1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0ED2-DB56-4E6A-95F5-D9B54E05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5402-ACDD-4F4F-B2AB-A6CDDABA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7FF7-D6B4-48F9-AFB7-6BE139BE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0607-42A2-47F6-98F1-B3FD3792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C093-4B3B-466B-8B7B-F2501D90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8EFC-C023-43BD-8623-05DB9760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38B5-F38F-4BF4-90AE-BED01672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133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A7B0-A8B7-43B6-A5A8-3472B2DB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AA5E-7896-4745-B303-2665AE55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2B24-99CD-492A-933B-B70D5657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0314-8B61-4370-BD9C-313A2E69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EF3D-3B75-49FA-BF1F-1197027A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28DF-D28C-47DE-9786-5BE737F3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3993-3C01-40CD-8B0E-E922B00E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25D9-6B9C-4F07-B05B-7ACF9D52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9433-1711-4457-A582-4175E825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1B5D-0975-4005-AAF3-AA443786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CA52-F625-42EE-9505-5A2AA4C1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133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12D3-5FA0-4143-A51D-B39CD9BE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F543-B05C-4104-BB64-286DF03C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1C91-4C1E-4D96-AC96-721C2797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A274-7839-4485-8D1A-6CD83BCD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1" name="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2" name="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5" name="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cce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5BDE-EF68-4322-9EBB-B178B06A0F31}" type="slidenum">
              <a:rPr b="0" lang="zh-CN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-12600" y="1808280"/>
            <a:ext cx="9204120" cy="5106960"/>
            <a:chOff x="-12600" y="1808280"/>
            <a:chExt cx="9204120" cy="5106960"/>
          </a:xfrm>
        </p:grpSpPr>
        <p:grpSp>
          <p:nvGrpSpPr>
            <p:cNvPr id="49" name=""/>
            <p:cNvGrpSpPr/>
            <p:nvPr/>
          </p:nvGrpSpPr>
          <p:grpSpPr>
            <a:xfrm>
              <a:off x="-12600" y="2927520"/>
              <a:ext cx="9204120" cy="3987720"/>
              <a:chOff x="-12600" y="2927520"/>
              <a:chExt cx="9204120" cy="3987720"/>
            </a:xfrm>
          </p:grpSpPr>
          <p:sp>
            <p:nvSpPr>
              <p:cNvPr id="50" name=""/>
              <p:cNvSpPr/>
              <p:nvPr/>
            </p:nvSpPr>
            <p:spPr>
              <a:xfrm>
                <a:off x="-12600" y="2927520"/>
                <a:ext cx="9204120" cy="32684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-12600" y="6195960"/>
                <a:ext cx="9204120" cy="71928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080" y="1808280"/>
              <a:ext cx="8305920" cy="2106360"/>
              <a:chOff x="838080" y="1808280"/>
              <a:chExt cx="8305920" cy="2106360"/>
            </a:xfrm>
          </p:grpSpPr>
          <p:sp>
            <p:nvSpPr>
              <p:cNvPr id="53" name=""/>
              <p:cNvSpPr/>
              <p:nvPr/>
            </p:nvSpPr>
            <p:spPr>
              <a:xfrm>
                <a:off x="838080" y="1808280"/>
                <a:ext cx="8305920" cy="2101680"/>
              </a:xfrm>
              <a:custGeom>
                <a:avLst/>
                <a:gdLst/>
                <a:ahLst/>
                <a:rect l="l" t="t" r="r" b="b"/>
                <a:pathLst>
                  <a:path w="5232" h="1324">
                    <a:moveTo>
                      <a:pt x="4933" y="536"/>
                    </a:moveTo>
                    <a:lnTo>
                      <a:pt x="4809" y="512"/>
                    </a:lnTo>
                    <a:lnTo>
                      <a:pt x="5157" y="452"/>
                    </a:lnTo>
                    <a:lnTo>
                      <a:pt x="4889" y="428"/>
                    </a:lnTo>
                    <a:lnTo>
                      <a:pt x="5052" y="391"/>
                    </a:lnTo>
                    <a:lnTo>
                      <a:pt x="4787" y="373"/>
                    </a:lnTo>
                    <a:lnTo>
                      <a:pt x="5225" y="287"/>
                    </a:lnTo>
                    <a:lnTo>
                      <a:pt x="4925" y="299"/>
                    </a:lnTo>
                    <a:lnTo>
                      <a:pt x="5110" y="240"/>
                    </a:lnTo>
                    <a:lnTo>
                      <a:pt x="4898" y="268"/>
                    </a:lnTo>
                    <a:lnTo>
                      <a:pt x="5231" y="164"/>
                    </a:lnTo>
                    <a:lnTo>
                      <a:pt x="4960" y="203"/>
                    </a:lnTo>
                    <a:lnTo>
                      <a:pt x="5135" y="117"/>
                    </a:lnTo>
                    <a:lnTo>
                      <a:pt x="4965" y="138"/>
                    </a:lnTo>
                    <a:lnTo>
                      <a:pt x="5209" y="39"/>
                    </a:lnTo>
                    <a:lnTo>
                      <a:pt x="4991" y="72"/>
                    </a:lnTo>
                    <a:lnTo>
                      <a:pt x="5124" y="0"/>
                    </a:lnTo>
                    <a:lnTo>
                      <a:pt x="4975" y="25"/>
                    </a:lnTo>
                    <a:lnTo>
                      <a:pt x="4789" y="60"/>
                    </a:lnTo>
                    <a:lnTo>
                      <a:pt x="4532" y="107"/>
                    </a:lnTo>
                    <a:lnTo>
                      <a:pt x="4115" y="189"/>
                    </a:lnTo>
                    <a:lnTo>
                      <a:pt x="3855" y="244"/>
                    </a:lnTo>
                    <a:lnTo>
                      <a:pt x="3591" y="295"/>
                    </a:lnTo>
                    <a:lnTo>
                      <a:pt x="3053" y="409"/>
                    </a:lnTo>
                    <a:lnTo>
                      <a:pt x="2809" y="463"/>
                    </a:lnTo>
                    <a:lnTo>
                      <a:pt x="2644" y="501"/>
                    </a:lnTo>
                    <a:lnTo>
                      <a:pt x="2375" y="559"/>
                    </a:lnTo>
                    <a:lnTo>
                      <a:pt x="2038" y="639"/>
                    </a:lnTo>
                    <a:lnTo>
                      <a:pt x="1614" y="741"/>
                    </a:lnTo>
                    <a:lnTo>
                      <a:pt x="1352" y="808"/>
                    </a:lnTo>
                    <a:lnTo>
                      <a:pt x="909" y="929"/>
                    </a:lnTo>
                    <a:lnTo>
                      <a:pt x="676" y="994"/>
                    </a:lnTo>
                    <a:lnTo>
                      <a:pt x="279" y="1129"/>
                    </a:lnTo>
                    <a:lnTo>
                      <a:pt x="153" y="1182"/>
                    </a:lnTo>
                    <a:lnTo>
                      <a:pt x="82" y="1217"/>
                    </a:lnTo>
                    <a:lnTo>
                      <a:pt x="24" y="1256"/>
                    </a:lnTo>
                    <a:lnTo>
                      <a:pt x="5" y="1277"/>
                    </a:lnTo>
                    <a:lnTo>
                      <a:pt x="0" y="1297"/>
                    </a:lnTo>
                    <a:lnTo>
                      <a:pt x="6" y="1311"/>
                    </a:lnTo>
                    <a:lnTo>
                      <a:pt x="24" y="1323"/>
                    </a:lnTo>
                    <a:lnTo>
                      <a:pt x="57" y="1321"/>
                    </a:lnTo>
                    <a:lnTo>
                      <a:pt x="93" y="1291"/>
                    </a:lnTo>
                    <a:lnTo>
                      <a:pt x="114" y="1272"/>
                    </a:lnTo>
                    <a:lnTo>
                      <a:pt x="146" y="1254"/>
                    </a:lnTo>
                    <a:lnTo>
                      <a:pt x="187" y="1232"/>
                    </a:lnTo>
                    <a:lnTo>
                      <a:pt x="252" y="1211"/>
                    </a:lnTo>
                    <a:lnTo>
                      <a:pt x="308" y="1191"/>
                    </a:lnTo>
                    <a:lnTo>
                      <a:pt x="392" y="1168"/>
                    </a:lnTo>
                    <a:lnTo>
                      <a:pt x="487" y="1142"/>
                    </a:lnTo>
                    <a:lnTo>
                      <a:pt x="615" y="1113"/>
                    </a:lnTo>
                    <a:lnTo>
                      <a:pt x="756" y="1082"/>
                    </a:lnTo>
                    <a:lnTo>
                      <a:pt x="914" y="1050"/>
                    </a:lnTo>
                    <a:lnTo>
                      <a:pt x="1185" y="1003"/>
                    </a:lnTo>
                    <a:lnTo>
                      <a:pt x="1397" y="966"/>
                    </a:lnTo>
                    <a:lnTo>
                      <a:pt x="1838" y="898"/>
                    </a:lnTo>
                    <a:lnTo>
                      <a:pt x="2349" y="827"/>
                    </a:lnTo>
                    <a:lnTo>
                      <a:pt x="2771" y="769"/>
                    </a:lnTo>
                    <a:lnTo>
                      <a:pt x="3188" y="722"/>
                    </a:lnTo>
                    <a:lnTo>
                      <a:pt x="3514" y="683"/>
                    </a:lnTo>
                    <a:lnTo>
                      <a:pt x="3772" y="653"/>
                    </a:lnTo>
                    <a:lnTo>
                      <a:pt x="4056" y="628"/>
                    </a:lnTo>
                    <a:lnTo>
                      <a:pt x="4370" y="594"/>
                    </a:lnTo>
                    <a:lnTo>
                      <a:pt x="4619" y="569"/>
                    </a:lnTo>
                    <a:lnTo>
                      <a:pt x="4933" y="536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cce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120" y="3446640"/>
                <a:ext cx="1133280" cy="468000"/>
              </a:xfrm>
              <a:custGeom>
                <a:avLst/>
                <a:gdLst/>
                <a:ahLst/>
                <a:rect l="l" t="t" r="r" b="b"/>
                <a:pathLst>
                  <a:path w="714" h="295">
                    <a:moveTo>
                      <a:pt x="0" y="250"/>
                    </a:moveTo>
                    <a:lnTo>
                      <a:pt x="24" y="233"/>
                    </a:lnTo>
                    <a:lnTo>
                      <a:pt x="48" y="211"/>
                    </a:lnTo>
                    <a:lnTo>
                      <a:pt x="73" y="197"/>
                    </a:lnTo>
                    <a:lnTo>
                      <a:pt x="129" y="170"/>
                    </a:lnTo>
                    <a:lnTo>
                      <a:pt x="220" y="129"/>
                    </a:lnTo>
                    <a:lnTo>
                      <a:pt x="391" y="76"/>
                    </a:lnTo>
                    <a:lnTo>
                      <a:pt x="556" y="27"/>
                    </a:lnTo>
                    <a:lnTo>
                      <a:pt x="713" y="0"/>
                    </a:lnTo>
                    <a:lnTo>
                      <a:pt x="569" y="52"/>
                    </a:lnTo>
                    <a:lnTo>
                      <a:pt x="460" y="88"/>
                    </a:lnTo>
                    <a:lnTo>
                      <a:pt x="349" y="129"/>
                    </a:lnTo>
                    <a:lnTo>
                      <a:pt x="252" y="162"/>
                    </a:lnTo>
                    <a:lnTo>
                      <a:pt x="145" y="203"/>
                    </a:lnTo>
                    <a:lnTo>
                      <a:pt x="85" y="245"/>
                    </a:lnTo>
                    <a:lnTo>
                      <a:pt x="65" y="274"/>
                    </a:lnTo>
                    <a:lnTo>
                      <a:pt x="39" y="288"/>
                    </a:lnTo>
                    <a:lnTo>
                      <a:pt x="16" y="294"/>
                    </a:lnTo>
                    <a:lnTo>
                      <a:pt x="6" y="286"/>
                    </a:lnTo>
                    <a:lnTo>
                      <a:pt x="0" y="274"/>
                    </a:lnTo>
                    <a:lnTo>
                      <a:pt x="0" y="250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8D6C-27AF-45B8-882F-4AF66676C8EB}" type="slidenum">
              <a:rPr b="0" lang="zh-CN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4:07Z</dcterms:modified>
  <cp:revision>23</cp:revision>
  <dc:subject/>
  <dc:title>幻灯片 1</dc:title>
</cp:coreProperties>
</file>